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3EB-AC6F-4652-81D1-4E4905CB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EBE1-A022-42D0-B54B-6182BD29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DD5-C9B7-41CB-9059-2D440B4F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8E1-9D38-4202-9D01-54B448A3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AF8-8396-4E71-9943-29A7B530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09B-364F-4505-A3E1-FB2AB682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770-2BA7-4FA8-829F-E71AA644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E5C-DFCC-4DE0-AEEC-8741F806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1A5-3113-4932-8247-9C26E308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933-F08C-48FC-B6EF-6940F224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916-B804-488F-B770-E11600B3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9FA1-34BF-4921-8127-6D804986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60BE-DBE1-43CB-8CFC-66D226177F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-36360" y="0"/>
            <a:ext cx="539280" cy="6858000"/>
            <a:chOff x="-36360" y="0"/>
            <a:chExt cx="539280" cy="6858000"/>
          </a:xfrm>
        </p:grpSpPr>
        <p:sp>
          <p:nvSpPr>
            <p:cNvPr id="42" name="Rectangle 17"/>
            <p:cNvSpPr/>
            <p:nvPr/>
          </p:nvSpPr>
          <p:spPr>
            <a:xfrm>
              <a:off x="-36360" y="0"/>
              <a:ext cx="27900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34800" y="0"/>
              <a:ext cx="5652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446760" y="0"/>
              <a:ext cx="5616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9"/>
          <p:cNvSpPr/>
          <p:nvPr/>
        </p:nvSpPr>
        <p:spPr>
          <a:xfrm rot="16200000">
            <a:off x="4596480" y="-3869280"/>
            <a:ext cx="504720" cy="8475480"/>
          </a:xfrm>
          <a:prstGeom prst="octagon">
            <a:avLst>
              <a:gd name="adj" fmla="val 2928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Формирование раздела 2.5.2 для корректирующих форм документов за периоды 2010-2013 с использованием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U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rb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611280" y="620640"/>
            <a:ext cx="847548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1. формирование корректирующей формы СЗВ-6-1, СЗВ-6-2 или СЗВ-6-4 в соответствующем режиме (ИС +АДВ-6-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. выгрузка сформированных корректирующих форм в отдельный кат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. в режиме формирования расчета с 2014 года во вкладке подраздела 2.5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1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значений вручную по кнопке добав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2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 файла(ов) по кнопке «добавить из файла» либо «добавить из всех файлов» в этом случае необходимо будет дозаполнить суммы доначисленных страховых взно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3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</a:t>
            </a:r>
            <a:r>
              <a:rPr b="1" lang="en-US" sz="1200" spc="-1" strike="noStrike">
                <a:solidFill>
                  <a:srgbClr val="4f009e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АДВ-6-2  по кнопке «добавить из АДВ-6-2», в этом случае необходимо будет дозаполнить сведения о корректируемых отчетном периоде и го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3320" y="2554200"/>
            <a:ext cx="4024080" cy="21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03280" y="4673520"/>
            <a:ext cx="3854520" cy="21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4703760" y="4749840"/>
            <a:ext cx="4260960" cy="21715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2"/>
          <p:cNvSpPr/>
          <p:nvPr/>
        </p:nvSpPr>
        <p:spPr>
          <a:xfrm>
            <a:off x="4500720" y="4869000"/>
            <a:ext cx="13665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643280" y="2529000"/>
            <a:ext cx="4321440" cy="21445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2"/>
          <p:cNvSpPr/>
          <p:nvPr/>
        </p:nvSpPr>
        <p:spPr>
          <a:xfrm>
            <a:off x="4313160" y="2637000"/>
            <a:ext cx="14112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77440" y="6453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3:04:10Z</dcterms:created>
  <dc:creator>1006</dc:creator>
  <dc:description/>
  <dc:language>en-US</dc:language>
  <cp:lastModifiedBy>opfr</cp:lastModifiedBy>
  <dcterms:modified xsi:type="dcterms:W3CDTF">2014-04-09T07:10:52Z</dcterms:modified>
  <cp:revision>63</cp:revision>
  <dc:subject/>
  <dc:title>Слайд 1</dc:title>
</cp:coreProperties>
</file>